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5D6-C918-4E32-AFD1-BCDAC3F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D5C-D615-423F-BD14-99E258F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394-813F-4D33-B2D1-F1A1929C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5F8-5113-4567-8389-2998EC99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0476-9403-4A7E-AA90-BEC7ACC9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C71-1D4B-4BAE-8A50-AF8828E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30A-7D21-46CF-80FF-33391301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5D69-51F0-4093-B66D-18EB886E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B07-B487-4B73-A050-E1C46EA7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53CE-361F-45D6-A8E2-D0D5502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DFB9-4736-4CF2-8D04-CB07C33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0DB-1F3F-4758-BE88-D0FCDB5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8CC4-8E81-47E7-B71E-A4D83160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C1E0-4772-457C-A8C1-C050A6B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901E-A1CB-4B61-812A-D465830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80E1-230D-44C8-9152-A195113F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990A-57A8-4A0E-9721-059AEC78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9712-924D-43EC-872F-9E1E6EA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A6F4-C444-462F-8C0C-8A9F7F02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58B4-A388-4DF0-BBF7-B13EDC9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B105-1B6F-4CF9-8772-77726712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7367-5FF2-483C-81F4-BCEF0235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11A-077D-44B8-BABC-C3536B8F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0A1C-851D-4973-B8F5-332FD80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4B7A-F555-4BCA-9158-98D9E876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3449-05DD-4A23-A342-A6EB0B4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2D19-7DB0-4B9D-AF25-4E1032E8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BD3A-6323-4758-B228-E05FE04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8E8C-D6E4-4B71-898F-1778FDC2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3B6F-A81E-4BD2-9EF7-055DE707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5881-EB46-4F2A-8E2A-73CEB2BC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35A6-1CC7-4374-9056-5A66973B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ED5C-7091-4388-A7EE-45B278F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5A4-20C7-43AC-B28E-550A5B1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A595-A136-4E62-AC76-1D203734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CB65-78BB-4CF0-A101-54F452FC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74EF-1A1F-420F-923F-A665B866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6CD4-53EA-48A6-95A5-72C9BDD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FB28-AF07-4C66-93A7-C5D25DD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58BA-8C98-48F9-84C7-20110C71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B9B9-1C43-4089-9FDF-9F67A199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1A1D-0923-4868-ADB2-7602C277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30C7-4CB6-4DE6-A254-F04EE569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BA5-9FFC-4772-92CE-F23339D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F73-298A-4D42-9836-3EE321DE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FE8-50B7-4C47-99D5-B558F7F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758-1C26-469D-ACA7-A194148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9F3-5BC5-4590-80A8-5C6B924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ACC-FF41-4B7B-951A-956CFB22EB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670-7E5B-41F8-9522-E01B769B82B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77F4-E1CD-4E9A-A69B-8DAF9BCC88F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9A71-EC7D-41D7-BCD5-8A2C797A05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85680" y="1365120"/>
            <a:ext cx="9472680" cy="192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и учащиеся 10 класс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уппа «Историки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Admin\Рабочий стол\У Коли\Картинки\03.png"/>
          <p:cNvPicPr/>
          <p:nvPr/>
        </p:nvPicPr>
        <p:blipFill>
          <a:blip r:embed="rId3"/>
          <a:stretch/>
        </p:blipFill>
        <p:spPr>
          <a:xfrm rot="21265800">
            <a:off x="356760" y="4000320"/>
            <a:ext cx="2540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4542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3857760" y="2838600"/>
            <a:ext cx="5286240" cy="4019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4714920" y="0"/>
            <a:ext cx="3457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onstantia"/>
              </a:rPr>
              <a:t>Благодаря истинному знанию ты будешь гораздо смелее и совершеннее в каждой работе, нежели без него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Constantia"/>
              </a:rPr>
              <a:t>Альбрехт Дюр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константах написано очень много интересных фактов, константы вовсю используются в искусстве, в живописи и т.п. В честь числа Пи организуют праздники, об этом числе поставлен фильм. По запоминанию цифр в этих числах ставят рекорды. В честь создателей констант называют различные события и объек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Documents and Settings\Admin\Рабочий стол\У Коли\Картинки\213.gif"/>
          <p:cNvPicPr/>
          <p:nvPr/>
        </p:nvPicPr>
        <p:blipFill>
          <a:blip r:embed="rId2"/>
          <a:stretch/>
        </p:blipFill>
        <p:spPr>
          <a:xfrm>
            <a:off x="5786280" y="4357800"/>
            <a:ext cx="202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Цель: Ответить на вопрос «Чем знамениты константы?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ширение знаний о констант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яснение интересных фактов о констант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тие речи, мышления и способности наблюдать и делать вы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Documents and Settings\Admin\Рабочий стол\У Коли\Картинки\06.jpg"/>
          <p:cNvPicPr/>
          <p:nvPr/>
        </p:nvPicPr>
        <p:blipFill>
          <a:blip r:embed="rId2"/>
          <a:stretch/>
        </p:blipFill>
        <p:spPr>
          <a:xfrm>
            <a:off x="4929120" y="4286160"/>
            <a:ext cx="37814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главл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. О числе </a:t>
            </a:r>
            <a:r>
              <a:rPr b="0" lang="el-GR" sz="54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. О числе 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3. О Золотом сечени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4. Вывод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Documents and Settings\Admin\Рабочий стол\У Коли\Картинки\default.jpeg"/>
          <p:cNvPicPr/>
          <p:nvPr/>
        </p:nvPicPr>
        <p:blipFill>
          <a:blip r:embed="rId2"/>
          <a:stretch/>
        </p:blipFill>
        <p:spPr>
          <a:xfrm>
            <a:off x="6072120" y="1000080"/>
            <a:ext cx="2465280" cy="1285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Documents and Settings\Admin\Рабочий стол\У Коли\Картинки\16.jpg"/>
          <p:cNvPicPr/>
          <p:nvPr/>
        </p:nvPicPr>
        <p:blipFill>
          <a:blip r:embed="rId3"/>
          <a:stretch/>
        </p:blipFill>
        <p:spPr>
          <a:xfrm rot="557400">
            <a:off x="7071840" y="51436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428760"/>
            <a:ext cx="91533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7920" y="428760"/>
            <a:ext cx="91360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 числе 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-20520" y="857160"/>
            <a:ext cx="91645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C:\Documents and Settings\Admin\Рабочий стол\У Коли\Картинки\20.jpg"/>
          <p:cNvPicPr/>
          <p:nvPr/>
        </p:nvPicPr>
        <p:blipFill>
          <a:blip r:embed="rId2"/>
          <a:stretch/>
        </p:blipFill>
        <p:spPr>
          <a:xfrm>
            <a:off x="6678720" y="4973760"/>
            <a:ext cx="2465280" cy="18842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 Золотом сечен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●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ще в 1925 году искусствовед Л.Л.Сабанее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в 1770 музыкальных произведений 42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ов, показал, что подавляющее большинств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ающихся сочинений можно легко разделить на час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ли по теме, или по интонационному строю, или п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адовому строю, которые находятся между собой 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ношении золотого сеч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ем, чем талантливее композитор, тем в больше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ичестве его произведений найдено золотых сечен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Аренского, Бетховена, Бородина, Гайдна, Моцарт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рябина, Шопена и Шуберта золотые сечения найд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90% всех произведений. По мнению Сабанеев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лотое сечение приводит к впечатлению особ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йности музыкального сочин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 кино С. Эйзенштейн искусственно построил фильм Броненосец Потёмкин по правилам «золотого сечения». Он разбил ленту на пять частей. В первых трёх действие разворачивается на корабле. В двух последних — в Одессе, где разворачивается восстание. Этот переход в город происходит точно в точке золотого сечения. Да и в каждой части есть свой перелом, происходящий по закону золотого с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только египетские пиpамиды постpоены в соответствии с совеpшенными пpопоpциями золотого сечения; то же самое явление обнаpужено и у мексиканских пиpами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ая пропорция применялась многими античными скульпторами. Известна золотая пропорция статуи Аполлона Бельведерского: рост изображенного человека делится пупочной линией в золотом сеч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еходя к примерам ”золотого сечения” в живописи, нельзя не остановить своего внимания на творчестве Леонардо да Винч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3:59Z</dcterms:created>
  <dc:creator>Admin</dc:creator>
  <dc:description/>
  <dc:language>en-US</dc:language>
  <cp:lastModifiedBy>User</cp:lastModifiedBy>
  <dcterms:modified xsi:type="dcterms:W3CDTF">2011-06-01T05:08:19Z</dcterms:modified>
  <cp:revision>21</cp:revision>
  <dc:subject/>
  <dc:title>А смысл есть?</dc:title>
</cp:coreProperties>
</file>